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E14-7754-49DC-B1D5-F938D54A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A72-8130-4397-BB15-4509B381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7AE-8FBA-4693-93E6-4B424A3F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598-43E3-4CA2-9D74-E7125A6C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10B-0E96-4D23-B670-D454F14C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E91-9CAA-4000-9B51-671CBCDF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FB4-CD82-44AE-BA57-641EF7D2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62CD-E03F-493D-AD69-391C25E1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5F0-2B4B-447F-B086-338FEA7D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57A-5918-4312-B38C-BF279DAA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69E-18AD-4BFA-AF0F-C91E89BE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3E6-849F-49E9-BF30-FF04542F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E8A5-734F-41C4-A4A2-3E50F05BEE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MCC"/>
          <p:cNvPicPr/>
          <p:nvPr/>
        </p:nvPicPr>
        <p:blipFill>
          <a:blip r:embed="rId1"/>
          <a:stretch/>
        </p:blipFill>
        <p:spPr>
          <a:xfrm>
            <a:off x="-324000" y="403200"/>
            <a:ext cx="5843880" cy="54198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8"/>
          <p:cNvGrpSpPr/>
          <p:nvPr/>
        </p:nvGrpSpPr>
        <p:grpSpPr>
          <a:xfrm>
            <a:off x="5591160" y="1701720"/>
            <a:ext cx="3012840" cy="2395440"/>
            <a:chOff x="5591160" y="1701720"/>
            <a:chExt cx="3012840" cy="2395440"/>
          </a:xfrm>
        </p:grpSpPr>
        <p:grpSp>
          <p:nvGrpSpPr>
            <p:cNvPr id="43" name="Group 17"/>
            <p:cNvGrpSpPr/>
            <p:nvPr/>
          </p:nvGrpSpPr>
          <p:grpSpPr>
            <a:xfrm>
              <a:off x="5591160" y="1701720"/>
              <a:ext cx="3012840" cy="2395440"/>
              <a:chOff x="5591160" y="1701720"/>
              <a:chExt cx="3012840" cy="239544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5591160" y="1701720"/>
                <a:ext cx="1527120" cy="23954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3"/>
              <p:cNvSpPr/>
              <p:nvPr/>
            </p:nvSpPr>
            <p:spPr>
              <a:xfrm>
                <a:off x="7076880" y="1701720"/>
                <a:ext cx="1527120" cy="2395440"/>
              </a:xfrm>
              <a:prstGeom prst="rect">
                <a:avLst/>
              </a:prstGeom>
              <a:solidFill>
                <a:srgbClr val="cccc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Pie 5"/>
              <p:cNvSpPr/>
              <p:nvPr/>
            </p:nvSpPr>
            <p:spPr>
              <a:xfrm>
                <a:off x="6098760" y="2131920"/>
                <a:ext cx="1968480" cy="166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4979" y="0"/>
                    </a:moveTo>
                    <a:cubicBezTo>
                      <a:pt x="6768" y="-8"/>
                      <a:pt x="8425" y="941"/>
                      <a:pt x="9324" y="2488"/>
                    </a:cubicBezTo>
                    <a:cubicBezTo>
                      <a:pt x="10223" y="4035"/>
                      <a:pt x="10227" y="5944"/>
                      <a:pt x="9335" y="7495"/>
                    </a:cubicBezTo>
                    <a:cubicBezTo>
                      <a:pt x="8443" y="9046"/>
                      <a:pt x="6790" y="10002"/>
                      <a:pt x="5000" y="10002"/>
                    </a:cubicBezTo>
                    <a:cubicBezTo>
                      <a:pt x="5000" y="8335"/>
                      <a:pt x="5001" y="6668"/>
                      <a:pt x="5001" y="5001"/>
                    </a:cubicBezTo>
                    <a:cubicBezTo>
                      <a:pt x="4994" y="3334"/>
                      <a:pt x="4986" y="1667"/>
                      <a:pt x="4979" y="0"/>
                    </a:cubicBezTo>
                    <a:close/>
                  </a:path>
                </a:pathLst>
              </a:custGeom>
              <a:solidFill>
                <a:srgbClr val="ef37f1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Pie 6"/>
              <p:cNvSpPr/>
              <p:nvPr/>
            </p:nvSpPr>
            <p:spPr>
              <a:xfrm>
                <a:off x="6098760" y="2131920"/>
                <a:ext cx="1968480" cy="166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5021" y="10000"/>
                    </a:moveTo>
                    <a:cubicBezTo>
                      <a:pt x="3232" y="10008"/>
                      <a:pt x="1574" y="9060"/>
                      <a:pt x="675" y="7513"/>
                    </a:cubicBezTo>
                    <a:cubicBezTo>
                      <a:pt x="-224" y="5966"/>
                      <a:pt x="-229" y="4056"/>
                      <a:pt x="664" y="2505"/>
                    </a:cubicBezTo>
                    <a:cubicBezTo>
                      <a:pt x="1556" y="954"/>
                      <a:pt x="3209" y="-2"/>
                      <a:pt x="4999" y="-2"/>
                    </a:cubicBezTo>
                    <a:cubicBezTo>
                      <a:pt x="5000" y="1666"/>
                      <a:pt x="5000" y="3333"/>
                      <a:pt x="5001" y="5001"/>
                    </a:cubicBezTo>
                    <a:cubicBezTo>
                      <a:pt x="5008" y="6667"/>
                      <a:pt x="5014" y="8334"/>
                      <a:pt x="5021" y="10000"/>
                    </a:cubicBezTo>
                    <a:close/>
                  </a:path>
                </a:pathLst>
              </a:cu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Text Box 7"/>
            <p:cNvSpPr/>
            <p:nvPr/>
          </p:nvSpPr>
          <p:spPr>
            <a:xfrm>
              <a:off x="5835960" y="186948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8"/>
            <p:cNvSpPr/>
            <p:nvPr/>
          </p:nvSpPr>
          <p:spPr>
            <a:xfrm>
              <a:off x="6349680" y="273384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9"/>
            <p:cNvSpPr/>
            <p:nvPr/>
          </p:nvSpPr>
          <p:spPr>
            <a:xfrm>
              <a:off x="7205040" y="273384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7635600" y="186948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9" descr="CodeCogsEqn"/>
          <p:cNvPicPr/>
          <p:nvPr/>
        </p:nvPicPr>
        <p:blipFill>
          <a:blip r:embed="rId2"/>
          <a:stretch/>
        </p:blipFill>
        <p:spPr>
          <a:xfrm>
            <a:off x="3203640" y="5243400"/>
            <a:ext cx="5508720" cy="561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5519880" y="98100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binding site 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551560" y="4508640"/>
            <a:ext cx="22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ed 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4"/>
          <p:cNvCxnSpPr>
            <a:stCxn id="54" idx="0"/>
          </p:cNvCxnSpPr>
          <p:nvPr/>
        </p:nvCxnSpPr>
        <p:spPr>
          <a:xfrm flipV="1">
            <a:off x="6696000" y="3428280"/>
            <a:ext cx="406800" cy="108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2:00:40Z</dcterms:created>
  <dc:creator> </dc:creator>
  <dc:description/>
  <cp:keywords/>
  <dc:language>en-US</dc:language>
  <cp:lastModifiedBy>dell</cp:lastModifiedBy>
  <dcterms:modified xsi:type="dcterms:W3CDTF">2017-02-01T04:33:55Z</dcterms:modified>
  <cp:revision>17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672</vt:lpwstr>
  </property>
</Properties>
</file>